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906-3BAC-47D1-9E65-5A81CE80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F287-FEA0-4B5F-A6ED-04363B41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50200-8814-4E34-85F5-F1C35BDF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FC48E-55CD-4228-AD5A-68B57F0E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BC73E-019D-4B46-AE3A-87756E8B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8FCED-0A9A-405C-B5EC-6198B85E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4AC4B-2FFC-4419-830C-8BE552AC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9520B-B091-48F4-BB87-B1DADFFD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5B178-E9F5-4F7F-97B1-26B94F11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A881F-AD87-44F8-BB2D-9F6EE253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26C5C-AF96-46E8-B969-9F87485C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59089-CE77-4437-A0D5-9D43C388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E0F-76A5-435C-B306-38EE4945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4EEDE-841E-418F-99EA-B173ADB7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70C9D-7B85-491F-85F6-38ECE999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82A84-1E0D-44FC-91EE-4A56240C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D158A-B6FD-4D8C-AC73-BD421AFA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B4F9D-5CA2-4AE5-AE74-6BC0D243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46763-328C-4D77-9AD5-1447947C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F65B2-5210-42B6-8E80-75EC7134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C8B48-F252-4D00-8851-7CF2683F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5EC68-8404-4DFE-8B51-01B52257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AF4C0-E528-4771-A202-E44CB8E9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9F7-C06E-4578-A7DA-5C7B170D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A47F3-FADC-4D32-8117-BF354448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0634A-EB2D-4945-AC0E-B15C93E5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B7F50-639E-42BE-8F63-517DC317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01347-E708-4CDC-85B8-69CD0C54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43D1E-8DD5-407D-A8D3-1617DBE3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1E0A7-4B0E-4ED1-B860-C3CBC9CE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AD343-1816-4818-AD3E-06C9AD6B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B2C67-3E27-457A-987B-B5BCAB8F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5B914-A8A4-4D51-A6C4-28D433DC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11994-12BE-496F-B4FC-5B3878F3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81EC-BF6F-4DEE-850A-B5D3A60D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FF005-5345-484D-BBD2-E3F9AAB9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CEF6C-DD9F-4DF2-9077-865571F1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74806-0237-486C-8833-A39FE0B7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FE13F-79CE-4F65-B7B0-0DE45D40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79BCE-4915-4DC4-BD29-D62A9017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3F2E4-893E-4FBA-AA17-9E5A55C2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A1560-12A6-466A-A8F5-FF6B4E75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9F788-E7EC-4074-B50D-E34F582B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0B4E1-B6C6-4DFE-BDAB-03BEF490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702F5-6767-40C5-9A6C-A2D8936D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CEF3-7030-46D5-93A5-13A0521F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09263-7F4A-4D81-AF17-9C947296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1C45D-9AF1-4F54-928D-B97E60EE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9FB67-E09D-4A19-AB41-4FF39536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CF386-9646-4927-86EF-B2054B30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DBCED-7B1F-4EF9-9F91-FD482A03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2417D-62F3-4733-ADEB-61EDE9A0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818DA-4BEC-4FF3-9090-1F708EDD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B1997-4765-4801-9E2E-306C1151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9D4FE-0ABD-4EFA-B0C2-6B237C8E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3C8CA-E3DC-466D-B148-CB611BE3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4CDE-48E6-4FD3-9143-62DED63C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EC357-C0AC-4E45-A9FE-80798434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DEFB0-C560-448D-9B49-60C9F162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89980-2E3B-47AF-AC0A-56D7F660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85B1C-9147-4FD5-BD2F-3A1B82FF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801D9-F30E-40D2-8CA2-F458E42B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B21073-7199-4133-884C-C3492A2E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98B29-BEE5-40AC-BCF9-4B0220BA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6E496-30AE-4B25-967E-78EBFF19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634CD-FA84-4F0E-93E9-55BA1A2E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25805-8807-4505-A3DB-9042010B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33B6-E29A-4152-84FF-8A247F08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1B176-80C4-4CB7-BF43-714E185A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EF5B4-60A3-41A0-AF71-6FAE2A8C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20CBE5-F230-4723-83D2-54AE9DA4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8DC73-989A-479D-BBCF-2FE72ADC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35486-9C9A-46B6-89BA-5AE60BE9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6578C-3747-4375-80EB-A4585893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13443-6007-4160-9E2E-D03A379C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BF3B90-C19A-470E-8FD2-C83F6427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1559E-D8AF-4CCC-B49E-9DD01C00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4BBD77-2696-48C0-9683-7848108C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2969-1A55-4259-9135-B5F8AFFA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A46E2-150A-4450-B5DC-FAD6C819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095473-3B6D-4F21-A768-93BB4AAA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FCC88E-7709-40C3-B5B9-9DE16E5F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28A340-0D21-483E-9807-5AD4CAC3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2DB99-BB39-4B8B-91B2-20C7B1BE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AE3EC-370A-4080-AD0F-959C6559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152585-83C0-4A68-9A8D-2363F73B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ABE4C5-92B5-4320-B417-8CE61F46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08AA5-9C26-4335-A022-99B783F1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0460D-4113-471E-B2E7-5681B7E1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E7BA-CEAC-4314-8865-F933A04E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1C277-FEF3-43D5-B64A-7185B2A1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7ED7D2-56CD-4131-8CAB-CF2134FC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FC3D37-0103-4C32-B941-60CADA46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2FF695-6E88-4B62-916E-9BBC9BCD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96737-401D-4DCC-AB48-03D19BE9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A33B02-46F6-48DF-B30A-CD84B756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490A33-1453-4B48-8F14-0D226121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FA5C9E-A708-4BE0-B944-719392C8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7F69B-0F07-4D38-9A3C-E29AE090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D25686-65AE-4674-8C61-ACEEAF21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B713-126A-42CF-8016-1225A9F6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2FFC23-CAD6-415C-91D0-8EBCAFA1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CC9E5E-8699-4A94-B42E-151F3588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8003ED-31A7-4826-9913-439F5F2A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B53B7A-735B-4666-A704-C330A3D5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89418C-7A65-4671-82C7-EB8177BE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6452F-48D9-4A8D-9858-3C51FBD7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C4BF28-5CE4-4D2A-A034-FF309488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9064D4-E20C-4C7E-AC8C-F9924C42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286D90-5095-447C-AE73-EAE80B28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15B638-2868-4688-AACA-B1B106D7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A86-D071-4B11-9EC0-CADEAB42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C5C1-E459-452D-A17F-C23B2CE8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CCDCB0-F11E-4360-BF68-57DE1C68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34C6D3-B01D-4378-9A86-499C2F0C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B80565-151B-4A1C-95B0-4C62CCF8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C764E-F4CA-4BAB-AE9C-D97A8A18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FA7C34-4C91-43BB-9F48-6A6E6A34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9FE513-57F8-4466-9189-7B115F43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D11222-5AE2-4EDF-A344-E6EC93CD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CDC337-0E7F-4EAA-8994-9BEE4021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A5D90A-BF97-43ED-AA2A-6F176745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F7E293-9623-4525-B547-D4BAB844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C66E-6895-4971-BCFA-335EEC39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B7A55-3225-4161-B47A-AB82F1EA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8E2E5A-C247-46A6-B35D-C3433FC5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BA8EA5-2975-4B1F-B3D2-7F52099C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6B5533-76E6-4AEA-9011-F98120D5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AB9FE-4547-431B-A4E7-C9E955F4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B67516-3C4A-49A3-BA14-4E401F70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BE78F7-CFD5-4043-89BD-5FFCDE09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4FE246-3E2F-4F2E-91EB-FCBA0EF2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DDEF0D-39FE-4BFF-9E2C-98AEC96E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2EB5CB-AA02-4294-A494-1FC2A675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2455-F409-4BDA-A9CB-FB3EECF0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26EF47-2980-41A9-90F6-0B731887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3C6781-D2EE-475B-ACD2-CDB0F18C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B34A2C-2C9E-47B9-88C4-FF80E86E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30C5A8-9832-4B1B-B844-E5CBA25B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AB3AD1-5E43-42CD-AEDE-7FA80D8B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0D3721-E492-421B-A8E4-F5D3C4C6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E711A2-3678-4BC6-AA51-BC6CD53D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40AA4C-E409-417D-B733-A89EFBA1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D4C2CF-CB38-4AE2-8B3F-27C91597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D7D3D4-F1CB-4839-B62E-A65FE057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A789-1873-432C-B0A7-E1D5B770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840B2E-5D47-4104-9E6E-7D7E4045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F58C93-BDB3-4D82-8A26-C555A5B0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B58828-4D10-4E8D-A107-84A86C2D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611C60-3BDC-4B53-99AE-76D1746E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51219D-CF5C-4B0D-AA36-F10B9AD2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82A500-F517-49C8-9B27-1BF4E34F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B9151E-F87F-42D0-B46A-800700B3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5F8653-BDA6-4C51-83B9-21E75B61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1C9E7E-4107-468F-BB7E-5C48D7C3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B9F111-A42E-4B88-A5F6-9F207EDF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F124-0809-42CA-B9BB-C1221092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7BF0A9-72D5-49A9-90F0-1344C3B8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F37DCD-3115-4252-943C-36CFC5D9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11A6C5-AA83-4218-914C-BBF0DC24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D87178-7A7F-4C8E-9DE9-FC3BA2B2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FE9D34-4D4C-416C-AAFE-4DA17DC9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CE5F6C-2CB8-4613-A0B9-5CD73643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8E9C63-3425-44CD-8360-6DE7F850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8F0B03-4983-43C1-9375-1937D217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9930F1-1E80-47B5-BAB6-793AA15C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1EAB5A-B21B-4E12-834A-89EFC066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26CFF-3196-4E58-8896-C81BA6B8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E58575-21FE-4EFC-B414-6BF020EE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646F16-AB78-4FBA-817D-EA942E21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FCE4FB-BA45-44A3-823F-52B5C3D2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01C7C-5E74-4AF4-A41E-4C8BC33C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68EA0-97DC-456F-93BE-F77DE28E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1ADD-5396-4E03-B5CA-7FCC5989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CB1B-AFC4-4139-8FB1-125E8A92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9B6-C22D-441F-BB2C-C59A14C4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38B5B-2E66-471A-A554-36334028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3B5B-40EC-49E0-8FDA-CBCC5DEF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732CF-C386-4F21-A206-373348E8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C969-61A3-43E1-A3A7-0DC6A368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2CADE-8022-4808-8927-7DB543ED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A7B1A-2C64-4B3C-95B5-74377471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2E29-29C9-47B9-BAAE-C4323552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E60AE-5C4B-44CC-B622-BFBDAB80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5C1AF-3184-48AF-97A2-B28BD934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A6C8F-01E7-46BB-A72B-E07B8CE2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EBD-DEF8-4EDB-905A-D2CA0B08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7BC06-3A9A-40C4-BD93-8F4E7E9A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782EA-15F9-41C2-BFC0-C64DF180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7592B-D63C-4A9E-A864-E69DC023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25284-67A0-403E-894D-7356A64B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A92E8-2B3F-4E3E-9138-89A3CC2A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A59A9-D569-4A1E-9BCA-285A1DE1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4E4BD-02D3-4C4F-B331-F312A814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70876-482B-431B-8AB6-650B08F4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727EF-65F7-44CA-B15A-4B0042C9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969CF-0C5E-4CD7-9C52-336D697C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61E-EDDE-44F6-9555-6B847262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88B82-B63C-4004-AC15-D6A0AE0E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26A40-3446-4282-BEEF-E743BBAE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826EF-9CC7-440C-9D28-09573F4D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984EF-F451-41B2-A6CD-5F2D9873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7D8F0-3486-4A5A-8AB7-B2A33D0F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70DEF-E3E1-4BFF-BB02-200689C1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1706D-51EF-47A0-B104-F83F2273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F1359-D174-494B-8033-C475B374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3AE3B-B168-471D-9C35-B539A1EE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0BDC5-CCF1-48BE-BD6E-C41240E2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8ED-C851-48B7-96C7-882C8341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37B98-E967-4AEB-88DF-C2AE88E9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31289-B69C-4566-9629-93175A05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290B5-C48D-4B5E-83C0-2E144031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B1F56-0C49-429F-AEC7-10DEB111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99CE6-CCEE-45F3-BDFA-5E0F5654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2E078-7407-4E8E-B75D-000C93E5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148E8-67DB-4B79-92F1-57F6B290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C59BC-6E77-42D3-BCC1-3A4304F2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39D16-F6E0-4265-BB63-03D030BA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F8650-4DDE-44DB-B758-479F839F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8A5-15DF-4B3C-90A2-FF5B083C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33DBD-4E13-4A68-A1E7-56B1E9B3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C0E29-8596-4BF8-B371-0610156F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016F4-405E-4975-A0C7-5F2B3243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0B4D7-6725-4010-994C-EAE32D23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E659C-0194-4F50-B885-07B7D3CE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81E81-B9F0-4748-8FD9-55438324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FC5D3-547F-4B27-9E72-3D9F475F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9C638-0E86-40BD-9C78-BEE5F383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FA214-6C71-4F66-8E2D-B53135E3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FA83F-D476-4F87-837B-0D4E84A9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08E-2D80-454E-8254-AF71134A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2E0CE-7B74-4C27-98C7-DE58E658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D73C7-4D89-4DF8-98FA-61672CAA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88247-D131-45D0-B793-7AE86EAB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3B5B1-0E73-478B-A4B4-AEAEC48E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29653-F19A-4CCC-81DE-D46A1A4E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8AAB9-2F82-4B89-883A-BA6F6E8C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AC2D6-A524-42B6-A4A7-EFFB8AFD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4ED49-C8D9-4AAF-8824-411791C9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3783C-3A6E-4343-80C3-ED004B5C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0C776-EAA1-4320-AA2A-4EF01C0D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4E7-DC26-4364-B453-3A43968F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75BA2-A29A-4E0A-B7DF-632FBA56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B022D-AE67-4C66-9B65-ED3E110E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29ABD-ABE7-43CE-AC54-B2DA26A7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6E3BB-CC98-40C5-A750-228A908C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9D35B-97F9-4D84-B0CA-A83B07AF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4F78D-1561-4B5D-8D65-C54328B7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93272-A335-4DDD-B51A-2FD6F89E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0F59B-7974-48C7-A6B5-A1A62BDB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8BEF9-BFF6-4FDD-BD39-FC0F0C17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21CD9-D4B6-4A74-BFBC-C1738069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0FE9-E678-483B-BDED-EC753F9AB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17B4-C15B-4F15-B15D-3CBE66B0E7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4D93-AFEC-408B-87A6-7B30EA988E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8CAB-31DF-475B-A5C5-4F9C33278A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C625-D89E-45CC-8309-A5FF7F8ECC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2374-E16E-48F0-8E2F-CF66A09B7E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B9C6-4CED-476E-B6BE-6046CD2975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8F44-FD6A-46D0-B4BF-1B07BCB938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2D00-3B83-4B66-A00F-897D0751A5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42C1-5378-465A-B375-2203CCFD52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3D28-5CFB-4E99-881D-2267CE669F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792B-F782-4070-8F77-78B93B06FD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1D42-9F75-4ACE-9F56-ECC924EAEC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79AA-9D00-4F09-9AA1-7FD099AD08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926A-8DCE-4066-A58F-B18BE0F82A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A125-DA99-4C64-9F81-76BA9FD581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D431-BCFD-4446-ABAA-03C746499C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E6A2-C5C5-424D-A721-FACC5888D1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202D-5214-4D00-A801-9B168B5B6B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AEA4-5E85-4541-8CA7-6AAD6094D0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BB81-9B8B-4058-A0A2-9862F748AD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0FFC-D345-4021-87B7-AA92F1C385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3B04-236D-443F-96C7-BD1211104B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407C-AACC-45EB-9E00-116391998C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89B9-0E84-41E0-AF24-EDC7E92AC9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F001-A0C4-4C68-A47A-68EFF98DF1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B445-7C89-49C1-B595-442CA03259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0A4A-50BB-42ED-B21D-FA26D6882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0D25-8BC4-464A-AFA2-885A1FE1CE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5A2E-68A3-46C2-8568-B7B844C591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530A-CF15-4BEE-ABD8-091AB4601F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93C4-54B4-4877-88F4-1659E63447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3610-D4C2-4185-A06B-91F7536500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5AEE-62A1-4E10-BDF0-45205365BF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B0A6-872F-477A-832E-1C69B7C81A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EDB6-6D19-4859-96C3-787FB707ED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4965-DA86-44B9-93A1-32AD95DDF3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6299-13A3-43EC-AFCC-F35304F028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15C9-6EC2-4928-AC3A-8EEA158017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DD28-005A-420A-AAD3-F0DB892C75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71280" y="2595600"/>
            <a:ext cx="8999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0" name="图片 1" descr=""/>
          <p:cNvPicPr/>
          <p:nvPr/>
        </p:nvPicPr>
        <p:blipFill>
          <a:blip r:embed="rId1"/>
          <a:stretch/>
        </p:blipFill>
        <p:spPr>
          <a:xfrm>
            <a:off x="100080" y="1333440"/>
            <a:ext cx="8942400" cy="41911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684360" y="47386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5" name="图片 1" descr=""/>
          <p:cNvPicPr/>
          <p:nvPr/>
        </p:nvPicPr>
        <p:blipFill>
          <a:blip r:embed="rId1"/>
          <a:stretch/>
        </p:blipFill>
        <p:spPr>
          <a:xfrm>
            <a:off x="519120" y="2004840"/>
            <a:ext cx="8104320" cy="28483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2"/>
          <a:stretch/>
        </p:blipFill>
        <p:spPr>
          <a:xfrm>
            <a:off x="770040" y="20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3"/>
          <a:stretch/>
        </p:blipFill>
        <p:spPr>
          <a:xfrm>
            <a:off x="826920" y="2952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4"/>
          <a:stretch/>
        </p:blipFill>
        <p:spPr>
          <a:xfrm>
            <a:off x="826920" y="3933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400560" y="1149480"/>
            <a:ext cx="2342880" cy="4093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404640" y="2185920"/>
            <a:ext cx="8332920" cy="24861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0160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16000" y="30830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1600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1116000" y="430704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971640" y="1166760"/>
            <a:ext cx="7200720" cy="4524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617840" y="1628640"/>
            <a:ext cx="36180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663560" y="2435400"/>
            <a:ext cx="362160" cy="3204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1619280" y="3284640"/>
            <a:ext cx="361800" cy="320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1619280" y="4119480"/>
            <a:ext cx="361800" cy="320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1692360" y="4956120"/>
            <a:ext cx="3618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1695600" y="996840"/>
            <a:ext cx="5752800" cy="53038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2340000" y="1512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234000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234000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2340000" y="4437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2340000" y="5373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285840" y="1566720"/>
            <a:ext cx="8572320" cy="37245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971640" y="342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971640" y="4437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985680" y="49276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235080" y="852480"/>
            <a:ext cx="8675640" cy="24192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2" descr=""/>
          <p:cNvPicPr/>
          <p:nvPr/>
        </p:nvPicPr>
        <p:blipFill>
          <a:blip r:embed="rId2"/>
          <a:stretch/>
        </p:blipFill>
        <p:spPr>
          <a:xfrm>
            <a:off x="353880" y="3684600"/>
            <a:ext cx="7799400" cy="28558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900000" y="14558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4"/>
          <a:stretch/>
        </p:blipFill>
        <p:spPr>
          <a:xfrm>
            <a:off x="5364000" y="1484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5"/>
          <a:stretch/>
        </p:blipFill>
        <p:spPr>
          <a:xfrm>
            <a:off x="900000" y="2147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6"/>
          <a:stretch/>
        </p:blipFill>
        <p:spPr>
          <a:xfrm>
            <a:off x="536400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7"/>
          <a:stretch/>
        </p:blipFill>
        <p:spPr>
          <a:xfrm>
            <a:off x="900000" y="285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8"/>
          <a:stretch/>
        </p:blipFill>
        <p:spPr>
          <a:xfrm>
            <a:off x="1014480" y="41781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9"/>
          <a:stretch/>
        </p:blipFill>
        <p:spPr>
          <a:xfrm>
            <a:off x="971640" y="4667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10"/>
          <a:stretch/>
        </p:blipFill>
        <p:spPr>
          <a:xfrm>
            <a:off x="971640" y="5157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11"/>
          <a:stretch/>
        </p:blipFill>
        <p:spPr>
          <a:xfrm>
            <a:off x="971640" y="566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12"/>
          <a:stretch/>
        </p:blipFill>
        <p:spPr>
          <a:xfrm>
            <a:off x="971640" y="61214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5" name="图片 1" descr=""/>
          <p:cNvPicPr/>
          <p:nvPr/>
        </p:nvPicPr>
        <p:blipFill>
          <a:blip r:embed="rId1"/>
          <a:stretch/>
        </p:blipFill>
        <p:spPr>
          <a:xfrm>
            <a:off x="162000" y="263520"/>
            <a:ext cx="8820000" cy="64771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2"/>
          <a:stretch/>
        </p:blipFill>
        <p:spPr>
          <a:xfrm>
            <a:off x="5292720" y="20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2916360" y="335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4"/>
          <a:stretch/>
        </p:blipFill>
        <p:spPr>
          <a:xfrm>
            <a:off x="2700360" y="4681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5"/>
          <a:stretch/>
        </p:blipFill>
        <p:spPr>
          <a:xfrm>
            <a:off x="3995640" y="4667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6"/>
          <a:stretch/>
        </p:blipFill>
        <p:spPr>
          <a:xfrm>
            <a:off x="3635280" y="59785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3" name="图片 1" descr=""/>
          <p:cNvPicPr/>
          <p:nvPr/>
        </p:nvPicPr>
        <p:blipFill>
          <a:blip r:embed="rId1"/>
          <a:stretch/>
        </p:blipFill>
        <p:spPr>
          <a:xfrm>
            <a:off x="271440" y="801720"/>
            <a:ext cx="7894800" cy="3741840"/>
          </a:xfrm>
          <a:prstGeom prst="rect">
            <a:avLst/>
          </a:prstGeom>
          <a:ln w="0">
            <a:noFill/>
          </a:ln>
        </p:spPr>
      </p:pic>
      <p:pic>
        <p:nvPicPr>
          <p:cNvPr id="1084" name="图片 2" descr=""/>
          <p:cNvPicPr/>
          <p:nvPr/>
        </p:nvPicPr>
        <p:blipFill>
          <a:blip r:embed="rId2"/>
          <a:stretch/>
        </p:blipFill>
        <p:spPr>
          <a:xfrm>
            <a:off x="804960" y="4741920"/>
            <a:ext cx="7704000" cy="18381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3"/>
          <a:stretch/>
        </p:blipFill>
        <p:spPr>
          <a:xfrm>
            <a:off x="900000" y="134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4"/>
          <a:stretch/>
        </p:blipFill>
        <p:spPr>
          <a:xfrm>
            <a:off x="942840" y="2276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5"/>
          <a:stretch/>
        </p:blipFill>
        <p:spPr>
          <a:xfrm>
            <a:off x="90000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6"/>
          <a:stretch/>
        </p:blipFill>
        <p:spPr>
          <a:xfrm>
            <a:off x="1042920" y="4797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7"/>
          <a:stretch/>
        </p:blipFill>
        <p:spPr>
          <a:xfrm>
            <a:off x="1042920" y="57769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2" name="图片 1" descr=""/>
          <p:cNvPicPr/>
          <p:nvPr/>
        </p:nvPicPr>
        <p:blipFill>
          <a:blip r:embed="rId1"/>
          <a:stretch/>
        </p:blipFill>
        <p:spPr>
          <a:xfrm>
            <a:off x="609480" y="2014560"/>
            <a:ext cx="7925040" cy="28288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3"/>
          <a:stretch/>
        </p:blipFill>
        <p:spPr>
          <a:xfrm>
            <a:off x="1258920" y="2967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4"/>
          <a:stretch/>
        </p:blipFill>
        <p:spPr>
          <a:xfrm>
            <a:off x="125892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5"/>
          <a:stretch/>
        </p:blipFill>
        <p:spPr>
          <a:xfrm>
            <a:off x="125892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6"/>
          <a:stretch/>
        </p:blipFill>
        <p:spPr>
          <a:xfrm>
            <a:off x="1258920" y="44370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3:27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